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8A4C7-C54F-4C26-A776-5ACF6BB32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30D59-7700-4D39-AC4A-0178C11BB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41AE8-6446-456E-93C4-AF70D46F6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C3DF0-613E-423C-8616-77339581E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00EEA-3D1C-48AB-B1C4-95ADB1F17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67A2E-B3BA-4A70-B44C-96B7B4B63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97E64-4498-4C0F-A5B1-340E060EB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F73B5-53C6-4071-9AB1-4D3A15070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12664-DE8B-4F2D-801E-5B31DEEC1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7E544-ECCE-475C-98A7-ED0EFA5B4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4021B-F1AF-47A6-A126-14A3069DD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54C10-056C-4B26-B78F-9F641ABF1C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B996E-3137-490C-BBD9-2CDC884A5B56}"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dckclib.wikispaces.com/textref"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3141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600" spc="-1" strike="noStrike">
                <a:solidFill>
                  <a:srgbClr val="000000"/>
                </a:solidFill>
                <a:latin typeface="Arial"/>
              </a:rPr>
              <a:t>Plagiarism</a:t>
            </a:r>
            <a:endParaRPr b="0" lang="en-US" sz="9600" spc="-1" strike="noStrike">
              <a:solidFill>
                <a:srgbClr val="000000"/>
              </a:solidFill>
              <a:latin typeface="Arial"/>
            </a:endParaRPr>
          </a:p>
        </p:txBody>
      </p:sp>
      <p:pic>
        <p:nvPicPr>
          <p:cNvPr id="42" name="Picture 4" descr="MCj02875040000[1]"/>
          <p:cNvPicPr/>
          <p:nvPr/>
        </p:nvPicPr>
        <p:blipFill>
          <a:blip r:embed="rId1"/>
          <a:stretch/>
        </p:blipFill>
        <p:spPr>
          <a:xfrm>
            <a:off x="5940360" y="620640"/>
            <a:ext cx="2562120" cy="309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971640" y="1125360"/>
            <a:ext cx="7488000" cy="3459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araphrases, restatements or summaries of the sense of another author’s ideas in your own words, must also be properly referenced.</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You may begin the paraphrase with signal phrases such 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According to Smith,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A recent study has show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clude a reference to the original work in your bibliograp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971640" y="1125360"/>
            <a:ext cx="7488000" cy="2339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mages, video and sound clips, or software programs that you download from the Internet must be properly cited.</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ven though you can easily download them it is still plagiarism to claim them as your own intellectual property by not properly referencing the creator.</a:t>
            </a:r>
            <a:endParaRPr b="0" lang="en-US" sz="1800" spc="-1" strike="noStrike">
              <a:solidFill>
                <a:srgbClr val="000000"/>
              </a:solidFill>
              <a:latin typeface="Arial"/>
            </a:endParaRPr>
          </a:p>
        </p:txBody>
      </p:sp>
      <p:sp>
        <p:nvSpPr>
          <p:cNvPr id="55" name="Text Box 3"/>
          <p:cNvSpPr/>
          <p:nvPr/>
        </p:nvSpPr>
        <p:spPr>
          <a:xfrm>
            <a:off x="4500720" y="5229360"/>
            <a:ext cx="3887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e textural reference examples at </a:t>
            </a:r>
            <a:r>
              <a:rPr b="0" lang="en-AU" sz="1800" spc="-1" strike="noStrike" u="sng">
                <a:solidFill>
                  <a:srgbClr val="009999"/>
                </a:solidFill>
                <a:uFillTx/>
                <a:latin typeface="Arial"/>
                <a:hlinkClick r:id="rId1"/>
              </a:rPr>
              <a:t>http://dckclib.wikispaces.com/textre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Creating a Reference List / Bibliography</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Ross (2007, p.18) notes that the ancient Greek philosopher Aristotle observed that light passing through a small hole in the wall of a room formed an upside-down image of an ob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hat does this source look like in the Reference List / Bibliograp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Creating a Reference List / Bibliography</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A very simple type of camera was developed by about 1500. However, the first true photograph was not made until 1826 (Williams 2006, p.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hat does this source look like in the Reference List / Bibliograp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Creating a Reference List / Bibliography</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2000" spc="-1" strike="noStrike">
                <a:solidFill>
                  <a:srgbClr val="000000"/>
                </a:solidFill>
                <a:latin typeface="Arial"/>
              </a:rPr>
              <a:t>During the 1920s and 1930s, photography underwent dramatic changes. Brooks (2008, p.56) describes how Laszlo Moholy-Nagy and Man Ray produced photos without using a camera. They placed objects on a piece of printing paper and exposed the paper with a flashlight. Other photographers used x-ray photos and multiple exposures (</a:t>
            </a:r>
            <a:r>
              <a:rPr b="0" i="1" lang="en-AU" sz="2000" spc="-1" strike="noStrike">
                <a:solidFill>
                  <a:srgbClr val="000000"/>
                </a:solidFill>
                <a:latin typeface="Arial"/>
              </a:rPr>
              <a:t>Abstract photography</a:t>
            </a:r>
            <a:r>
              <a:rPr b="0" lang="en-AU" sz="2000" spc="-1" strike="noStrike">
                <a:solidFill>
                  <a:srgbClr val="000000"/>
                </a:solidFill>
                <a:latin typeface="Arial"/>
              </a:rPr>
              <a:t>, 2006).</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What does this source look like in the Reference List / Bibliograph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5"/>
          <p:cNvSpPr/>
          <p:nvPr/>
        </p:nvSpPr>
        <p:spPr>
          <a:xfrm>
            <a:off x="684360" y="1341360"/>
            <a:ext cx="763272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lagiarism or no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You have too much work to do and your English essay is due. Instead of doing this essay, you hand in an essay on the same topic that you did last year for another subj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684360" y="1341360"/>
            <a:ext cx="763272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lagiarism or no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You found some excellent music on a free shareware site, which you have used in a PowerPoint presentatio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You acknowledge the source of the music, even though it was from a shareware 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684360" y="1341360"/>
            <a:ext cx="763272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lagiarism or no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You have found a funny video clip on YouTube and decide to use it in the video you are making.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You don’t worry about putting it in the credits at the end of your vid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684360" y="1341360"/>
            <a:ext cx="763272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lagiarism or no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You have used several statements that are common knowledge in your report (e.g. The Big Day Out is a series of popular outdoor music festivals held in Australia).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You don’t worry about referencing that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2"/>
          <p:cNvSpPr/>
          <p:nvPr/>
        </p:nvSpPr>
        <p:spPr>
          <a:xfrm>
            <a:off x="684360" y="1341360"/>
            <a:ext cx="763272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lagiarism or no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n the Internet you have found just the right sentence to add to your photography assignmen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You cut and paste it into your assignment and don’t acknowledge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684360" y="1341360"/>
            <a:ext cx="763272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lagiarism or no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n the Internet you have found just the right sentence to add to your photography assignmen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You cut and paste it into your assignment and don’t acknowledge i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Text Box 3"/>
          <p:cNvSpPr/>
          <p:nvPr/>
        </p:nvSpPr>
        <p:spPr>
          <a:xfrm>
            <a:off x="684360" y="4797360"/>
            <a:ext cx="74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What could you have d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684360" y="476280"/>
            <a:ext cx="7632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n the Internet you have found just the right sentence to add to your photography assignment. You cut and paste it into your assignment.</a:t>
            </a:r>
            <a:endParaRPr b="0" lang="en-US" sz="2400" spc="-1" strike="noStrike">
              <a:solidFill>
                <a:srgbClr val="000000"/>
              </a:solidFill>
              <a:latin typeface="Arial"/>
            </a:endParaRPr>
          </a:p>
        </p:txBody>
      </p:sp>
      <p:sp>
        <p:nvSpPr>
          <p:cNvPr id="51" name="Text Box 3"/>
          <p:cNvSpPr/>
          <p:nvPr/>
        </p:nvSpPr>
        <p:spPr>
          <a:xfrm>
            <a:off x="755640" y="2133720"/>
            <a:ext cx="7416720" cy="377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stead of: </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The first technology was the primitive modes of communication used by prehistoric people before the development of spoken language.</a:t>
            </a:r>
            <a:r>
              <a:rPr b="0" lang="en-AU" sz="1800" spc="-1" strike="noStrike">
                <a:solidFill>
                  <a:srgbClr val="000000"/>
                </a:solidFill>
                <a:latin typeface="Arial"/>
              </a:rPr>
              <a:t> </a:t>
            </a: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 quotes and a textural refere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Frick (1991) believes that "... the first technology was the primitive modes of communication used by prehistoric people before the development of spoken language" (p. 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4"/>
          <p:cNvSpPr/>
          <p:nvPr/>
        </p:nvSpPr>
        <p:spPr>
          <a:xfrm>
            <a:off x="971640" y="1125360"/>
            <a:ext cx="7345440" cy="2065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rect quotations must be identified with indentation or quotation marks and be properly cited.</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en you copy words, phrases, sentences, or paragraphs from a source you must acknowledge the author with a proper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02:05:41Z</dcterms:created>
  <dc:creator>Joan McKay</dc:creator>
  <dc:description/>
  <dc:language>en-US</dc:language>
  <cp:lastModifiedBy>02216805</cp:lastModifiedBy>
  <dcterms:modified xsi:type="dcterms:W3CDTF">2009-10-12T02:48:56Z</dcterms:modified>
  <cp:revision>7</cp:revision>
  <dc:subject/>
  <dc:title>Plagiarism</dc:title>
</cp:coreProperties>
</file>